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9411-62BD-463A-83C1-51B4867E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21C7-DA99-461A-BC9F-30826227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7CF7-D954-47F1-B53E-67C18F61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E195-E4D6-4C00-A5CC-D5C5DB98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2F66-3CDA-4D48-B23F-C28F9948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E43D-E687-4421-BF1F-65586BFC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322C-5CC1-4E08-BA5B-DF05F0F2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A1AB-297A-4E48-A124-98A4113D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66B0-6E50-4A99-B972-8A14231D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3F3E-A913-4718-86A1-C0B8D60B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2F18-D606-453A-A113-BEB92F4A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6F1C-272C-402D-8C9A-B1EC609B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80DA-F742-4C13-A566-06204D2B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08D2-054B-4C1B-ABE5-C8850ED6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F9AE-4C77-4DA4-99B9-3DBC9D9B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67AA-9DAC-405A-A6A9-FF5C3788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831D-50A6-4850-864F-EEAF29CC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2A34F-6D70-40AD-979C-4A268CAB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F465A-21E9-427F-8FDA-3DEB745D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E65E2-1F58-4429-8A12-EBB274A3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FB9C2-A7B6-4E78-A0CA-88CA0FE4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1C541-7EB7-4FCF-A756-03BFF868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2191-9216-437D-A615-617A6725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4D22A-03A5-4A87-836D-56C18803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72CAE-F78D-4FD0-83D5-F108AE17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DCEA2-C85B-47BC-A6AE-5C00FE8A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F0127-28EF-4540-B6F7-5C0FEBC2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022E1-9C8A-4AC5-A48D-3A4A747D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F00DF-E118-4871-B918-B1315D80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39FA0-495A-4D4A-8C80-07ED93C5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73A7D-ADCF-4DBC-9433-5E3C7345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2278C-335C-43FF-A152-6C6ABC08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9C1FF-CA3B-4B76-A762-6F38A102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E971-68C8-45E8-AB90-1A97E1AE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996E1-FE82-48CE-882C-9CE98074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08F6D-3EAC-4453-9C08-2A9FFF4C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190CB-F42F-46BA-AA52-BB4D8EF8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373A7-577D-4E40-BC1E-2DE3C521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BD60F-9955-4D3C-ACF5-2BC0744C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8A6BC-D96F-4904-ABAC-12C60E38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DE908-1D4B-4ED1-A7E2-D726B62E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6440E-A46E-4898-A4A2-E01EC7F7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3915F-0AA9-4059-B63E-66EE83AF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CEDBE-BD86-4564-90B1-B3A99416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E36-2243-4DB4-9305-B6804ED5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F200F-A39F-413F-92BA-DAE2BE20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2271E-8CCC-43A6-A2BC-0D3D262C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372F3-ECC0-4DB3-9FC9-891883BF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E74CE-C961-4EDD-B95E-0E579BAB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74C14-8AD4-48E3-9FAC-4F2089EF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C7D4A-840A-416F-89AB-59871A66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9374C-6F10-402F-AD24-ED293D51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2B16C-2261-48CE-923B-047ADFCA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1A706-E716-481E-9640-4044949D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201CB-3E31-4F70-9938-B28F22AC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427B-FA9F-403F-95AC-511D7DFD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7B8A5-F34F-4F9F-85C9-60545EF7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B1956-E11C-4D38-8474-01560F86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B6D9B-725A-43AF-BD3F-660E1E38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D8264-30F5-4A7E-9EFD-FF3F8D43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08288-24A2-4D35-95C9-EAED75C3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98D2D-C04D-4AA0-82F9-83FD24A8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2F3CB-F056-46AF-98B9-0AD1BE77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3B962-78BF-4A4C-9372-118EDEAE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63879-C742-4297-ACF5-3AA24D26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AED60-BCDD-4014-88B9-98E9036F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988F-6E66-43BD-9D34-071BC66C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8F1A2-D87D-4B87-8BD9-B79A8A7A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9E27B-3B0D-4863-8E00-D59167F6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A83D8-70A1-46E4-9347-675E13EE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C437-0541-438F-B18F-F4FEC414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F725-3A61-4518-BDFA-05970252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401760"/>
            <a:ext cx="8686800" cy="109836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8166240" y="996840"/>
            <a:ext cx="977760" cy="89532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1782720" y="0"/>
            <a:ext cx="1947960" cy="53964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0"/>
            <a:ext cx="2432160" cy="53964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4FD1-ED88-4327-9389-3477E62BC3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8210520" y="2789280"/>
            <a:ext cx="933480" cy="10047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2130480"/>
            <a:ext cx="8458200" cy="91440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495520" y="0"/>
            <a:ext cx="1711440" cy="235908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0" y="0"/>
            <a:ext cx="2789280" cy="2359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56C7-3FF4-4BAB-B1BF-57064F3358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8210520" y="2789280"/>
            <a:ext cx="933480" cy="10047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2130480"/>
            <a:ext cx="8458200" cy="91440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2495520" y="0"/>
            <a:ext cx="1711440" cy="235908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2789280" cy="267012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727A-B64D-4E05-B4EE-28BC42CC92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f5bc8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0"/>
            <a:ext cx="9144000" cy="301680"/>
          </a:xfrm>
          <a:prstGeom prst="rect">
            <a:avLst/>
          </a:prstGeom>
          <a:solidFill>
            <a:srgbClr val="cc9ea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0"/>
            <a:ext cx="2432160" cy="5302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427040" y="0"/>
            <a:ext cx="1571760" cy="43812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454C-1DB0-44EB-A384-2F0939DB87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f5bc8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0" y="0"/>
            <a:ext cx="9144000" cy="301680"/>
          </a:xfrm>
          <a:prstGeom prst="rect">
            <a:avLst/>
          </a:prstGeom>
          <a:solidFill>
            <a:srgbClr val="cc9ea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0" y="0"/>
            <a:ext cx="301680" cy="6858000"/>
          </a:xfrm>
          <a:prstGeom prst="rect">
            <a:avLst/>
          </a:prstGeom>
          <a:solidFill>
            <a:srgbClr val="9bbb5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0" y="0"/>
            <a:ext cx="2432160" cy="5302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1427040" y="0"/>
            <a:ext cx="1571760" cy="43812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8842320" y="0"/>
            <a:ext cx="301680" cy="6858000"/>
          </a:xfrm>
          <a:prstGeom prst="rect">
            <a:avLst/>
          </a:prstGeom>
          <a:solidFill>
            <a:srgbClr val="9bbb5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DFC3-F1E0-4797-AFE9-C61624B8DD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 rot="5400000">
            <a:off x="4571280" y="2349720"/>
            <a:ext cx="6519960" cy="181116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6553080" y="6135840"/>
            <a:ext cx="987480" cy="7221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8605800" y="1379520"/>
            <a:ext cx="539640" cy="146196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8604360" y="0"/>
            <a:ext cx="539640" cy="182880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1692-764D-4122-8E4B-C50A3829F3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Wrigley" TargetMode="External"/><Relationship Id="rId2" Type="http://schemas.openxmlformats.org/officeDocument/2006/relationships/hyperlink" Target="http://pic.ipicture.ru/uploads/090528/Edv29OTtTO.jpg" TargetMode="External"/><Relationship Id="rId3" Type="http://schemas.openxmlformats.org/officeDocument/2006/relationships/hyperlink" Target="http://www.bosonogoe.ru/uploads/images/c/d/8/a/547/9aa3afa264.jpg" TargetMode="External"/><Relationship Id="rId4" Type="http://schemas.openxmlformats.org/officeDocument/2006/relationships/hyperlink" Target="http://kuraev.ru/smf/index.php?topic=162668.msg1842964" TargetMode="External"/><Relationship Id="rId5" Type="http://schemas.openxmlformats.org/officeDocument/2006/relationships/hyperlink" Target="http://img-2006-10.photosight.ru/19/1714052.jpg" TargetMode="External"/><Relationship Id="rId6" Type="http://schemas.openxmlformats.org/officeDocument/2006/relationships/hyperlink" Target="http://my.passion.ru/users/134000/133222/19208.jpg" TargetMode="External"/><Relationship Id="rId7" Type="http://schemas.openxmlformats.org/officeDocument/2006/relationships/hyperlink" Target="http://www.silvercoffee.ru/images/articles/full/67/ulybka2.jpg" TargetMode="External"/><Relationship Id="rId8" Type="http://schemas.openxmlformats.org/officeDocument/2006/relationships/hyperlink" Target="http://vitosan.ru/images/stories/gastrit.jpg" TargetMode="External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20840" y="3117960"/>
            <a:ext cx="7781760" cy="26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62b71"/>
                </a:solidFill>
                <a:latin typeface="Calibri"/>
              </a:rPr>
              <a:t>Жевательная резинка.</a:t>
            </a:r>
            <a:br>
              <a:rPr sz="4800"/>
            </a:br>
            <a:r>
              <a:rPr b="1" lang="ru-RU" sz="4800" spc="-1" strike="noStrike">
                <a:solidFill>
                  <a:srgbClr val="562b71"/>
                </a:solidFill>
                <a:latin typeface="Calibri"/>
              </a:rPr>
              <a:t>История. Польза и вред жевательной резинки.</a:t>
            </a:r>
            <a:endParaRPr b="0" lang="en-US" sz="48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-360" y="2358720"/>
            <a:ext cx="8210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лассный час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62b71"/>
                </a:solidFill>
                <a:latin typeface="Calibri"/>
              </a:rPr>
              <a:t>Старинные компании-изготовители жвачек</a:t>
            </a:r>
            <a:endParaRPr b="0" lang="en-US" sz="36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ающиеся по сей день жвачки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pearmint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Juicy Fruit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компания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rigley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шли на рынок в 1893 году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пания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rigley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же производит жвачки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Orbit, Hubba Bubba, Eclipse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иводство осуществляеся более чем в 180 странах мира, численность персонала – около 15 тысяч человек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62b71"/>
                </a:solidFill>
                <a:latin typeface="Calibri"/>
              </a:rPr>
              <a:t>Жевательная резинка в СССР</a:t>
            </a: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643280" y="1599840"/>
            <a:ext cx="404352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ервая советская жевательная резинка производится в Ереване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зже открывается производство в Эстонии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осковская фабрика «Рот Фронт» начинает выпуск жевательных резинок в преддверии Олимпиады-80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98" name="Рисунок 3" descr="9aa3afa264.jpg"/>
          <p:cNvPicPr/>
          <p:nvPr/>
        </p:nvPicPr>
        <p:blipFill>
          <a:blip r:embed="rId1"/>
          <a:stretch/>
        </p:blipFill>
        <p:spPr>
          <a:xfrm>
            <a:off x="928800" y="1643040"/>
            <a:ext cx="2928960" cy="247824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4" descr="ff258d634303.jpg"/>
          <p:cNvPicPr/>
          <p:nvPr/>
        </p:nvPicPr>
        <p:blipFill>
          <a:blip r:embed="rId2"/>
          <a:stretch/>
        </p:blipFill>
        <p:spPr>
          <a:xfrm>
            <a:off x="857160" y="4286160"/>
            <a:ext cx="314352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62b71"/>
                </a:solidFill>
                <a:latin typeface="Calibri"/>
              </a:rPr>
              <a:t>Жевательная резинка в современном мире</a:t>
            </a:r>
            <a:endParaRPr b="0" lang="en-US" sz="36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йчас жевательные резинки производятся в более чем в 180 странах мира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х можно купить в любом продуктовом магазине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МИ постоянно рекламируются различные виды жевательных резинок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62b71"/>
                </a:solidFill>
                <a:latin typeface="Calibri"/>
              </a:rPr>
              <a:t>Польза жвачки (по мнению производителей)</a:t>
            </a:r>
            <a:endParaRPr b="0" lang="en-US" sz="36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вачка способствует выделению слюны, которая очищает полость рта от остатков пищи, защищает зубы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евательная резинка освежает дыхание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евание укрепляет десны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сторожно: опасность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!</a:t>
            </a: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63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держимый в жвачках сахар способствует возникновению кариеса, порче зубов, а также сильнейшей боли в зубах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06" name="Рисунок 3" descr="1714052.jpg"/>
          <p:cNvPicPr/>
          <p:nvPr/>
        </p:nvPicPr>
        <p:blipFill>
          <a:blip r:embed="rId1"/>
          <a:stretch/>
        </p:blipFill>
        <p:spPr>
          <a:xfrm>
            <a:off x="2357280" y="3106800"/>
            <a:ext cx="442944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сторожно: опасность!</a:t>
            </a: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63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остоянном жевании ухудшается состояние височно-нижнечелюстного сустава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09" name="Рисунок 4" descr="19208.jpg"/>
          <p:cNvPicPr/>
          <p:nvPr/>
        </p:nvPicPr>
        <p:blipFill>
          <a:blip r:embed="rId1"/>
          <a:stretch/>
        </p:blipFill>
        <p:spPr>
          <a:xfrm>
            <a:off x="857160" y="3286080"/>
            <a:ext cx="3505320" cy="273384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5" descr="18548_34.1165412870.15823.jpg"/>
          <p:cNvPicPr/>
          <p:nvPr/>
        </p:nvPicPr>
        <p:blipFill>
          <a:blip r:embed="rId2"/>
          <a:stretch/>
        </p:blipFill>
        <p:spPr>
          <a:xfrm>
            <a:off x="5286240" y="2928960"/>
            <a:ext cx="250056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сторожно: опасность!</a:t>
            </a: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63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азывает сильное отрицательное влияние при жевании натощак: приводит к возникновению заболеваний желудочно-кишечного тракта и их обострению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13" name="Рисунок 6" descr="269253-12314-47.jpg"/>
          <p:cNvPicPr/>
          <p:nvPr/>
        </p:nvPicPr>
        <p:blipFill>
          <a:blip r:embed="rId1"/>
          <a:stretch/>
        </p:blipFill>
        <p:spPr>
          <a:xfrm>
            <a:off x="928800" y="3571920"/>
            <a:ext cx="2786040" cy="293220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7" descr="ea6dbed836917c6947c5e7f0f428c8c0_big.jpg"/>
          <p:cNvPicPr/>
          <p:nvPr/>
        </p:nvPicPr>
        <p:blipFill>
          <a:blip r:embed="rId2"/>
          <a:stretch/>
        </p:blipFill>
        <p:spPr>
          <a:xfrm>
            <a:off x="4500720" y="3643200"/>
            <a:ext cx="371448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сторожно: опасность!</a:t>
            </a: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63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жевании более 5 минут подряд (по разным источникам, в день) также приводит к заболеваниям в ЖКТ – гастритам, язвам и т.д.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17" name="Рисунок 5" descr="illu_1.jpg"/>
          <p:cNvPicPr/>
          <p:nvPr/>
        </p:nvPicPr>
        <p:blipFill>
          <a:blip r:embed="rId1"/>
          <a:stretch/>
        </p:blipFill>
        <p:spPr>
          <a:xfrm>
            <a:off x="3571920" y="3714840"/>
            <a:ext cx="2357280" cy="246996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8" descr="26124011.jpg"/>
          <p:cNvPicPr/>
          <p:nvPr/>
        </p:nvPicPr>
        <p:blipFill>
          <a:blip r:embed="rId2"/>
          <a:stretch/>
        </p:blipFill>
        <p:spPr>
          <a:xfrm>
            <a:off x="6215040" y="3357720"/>
            <a:ext cx="2214720" cy="299556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9" descr="6yazva.jpg"/>
          <p:cNvPicPr/>
          <p:nvPr/>
        </p:nvPicPr>
        <p:blipFill>
          <a:blip r:embed="rId3"/>
          <a:stretch/>
        </p:blipFill>
        <p:spPr>
          <a:xfrm>
            <a:off x="1000080" y="3786120"/>
            <a:ext cx="21430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143160" y="1356840"/>
            <a:ext cx="5586480" cy="492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562b71"/>
                </a:solidFill>
                <a:latin typeface="Calibri"/>
              </a:rPr>
              <a:t>Что выберешь </a:t>
            </a:r>
            <a:r>
              <a:rPr b="0" lang="ru-RU" sz="9600" spc="-1" strike="noStrike" u="sng">
                <a:solidFill>
                  <a:srgbClr val="562b71"/>
                </a:solidFill>
                <a:uFillTx/>
                <a:latin typeface="Calibri"/>
              </a:rPr>
              <a:t>ты</a:t>
            </a:r>
            <a:r>
              <a:rPr b="0" lang="ru-RU" sz="9600" spc="-1" strike="noStrike">
                <a:solidFill>
                  <a:srgbClr val="562b71"/>
                </a:solidFill>
                <a:latin typeface="Calibri"/>
              </a:rPr>
              <a:t>?</a:t>
            </a:r>
            <a:endParaRPr b="0" lang="en-US" sz="96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321" name="TextBox 3"/>
          <p:cNvSpPr/>
          <p:nvPr/>
        </p:nvSpPr>
        <p:spPr>
          <a:xfrm>
            <a:off x="285840" y="642960"/>
            <a:ext cx="27144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0" spc="-1" strike="noStrike">
                <a:solidFill>
                  <a:srgbClr val="c00000"/>
                </a:solidFill>
                <a:latin typeface="Calibri"/>
              </a:rPr>
              <a:t>?</a:t>
            </a:r>
            <a:endParaRPr b="0" lang="en-US" sz="4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доровье или …?</a:t>
            </a: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323" name="Содержимое 2"/>
          <p:cNvSpPr/>
          <p:nvPr/>
        </p:nvSpPr>
        <p:spPr>
          <a:xfrm>
            <a:off x="428760" y="1643040"/>
            <a:ext cx="4043160" cy="48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24" name="Рисунок 4" descr="pic-3029.jpg"/>
          <p:cNvPicPr/>
          <p:nvPr/>
        </p:nvPicPr>
        <p:blipFill>
          <a:blip r:embed="rId1"/>
          <a:stretch/>
        </p:blipFill>
        <p:spPr>
          <a:xfrm>
            <a:off x="357120" y="1785960"/>
            <a:ext cx="3092400" cy="464328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6" descr="1244307257_13.jpg"/>
          <p:cNvPicPr/>
          <p:nvPr/>
        </p:nvPicPr>
        <p:blipFill>
          <a:blip r:embed="rId2"/>
          <a:stretch/>
        </p:blipFill>
        <p:spPr>
          <a:xfrm>
            <a:off x="3714840" y="1714680"/>
            <a:ext cx="3000240" cy="171432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7" descr="ulybka2.jpg"/>
          <p:cNvPicPr/>
          <p:nvPr/>
        </p:nvPicPr>
        <p:blipFill>
          <a:blip r:embed="rId3"/>
          <a:stretch/>
        </p:blipFill>
        <p:spPr>
          <a:xfrm>
            <a:off x="4786200" y="3571920"/>
            <a:ext cx="40766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62b71"/>
                </a:solidFill>
                <a:latin typeface="Calibri"/>
              </a:rPr>
              <a:t>Постановка целей</a:t>
            </a: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жевательная резинка (жвачка)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давно была создана жевательная резинка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ая польза от жевательной резинки и есть ли вред от нее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правильно «жевать» без вреда для здоровья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ично ли жевать резинку в обществе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…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или жевательную резинку?</a:t>
            </a: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328" name="Содержимое 2"/>
          <p:cNvSpPr/>
          <p:nvPr/>
        </p:nvSpPr>
        <p:spPr>
          <a:xfrm>
            <a:off x="428760" y="1643040"/>
            <a:ext cx="4043160" cy="48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29" name="Рисунок 8" descr="gastrit.jpg"/>
          <p:cNvPicPr/>
          <p:nvPr/>
        </p:nvPicPr>
        <p:blipFill>
          <a:blip r:embed="rId1"/>
          <a:stretch/>
        </p:blipFill>
        <p:spPr>
          <a:xfrm>
            <a:off x="357120" y="1857240"/>
            <a:ext cx="3214800" cy="428652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9" descr="st12.jpg"/>
          <p:cNvPicPr/>
          <p:nvPr/>
        </p:nvPicPr>
        <p:blipFill>
          <a:blip r:embed="rId2"/>
          <a:stretch/>
        </p:blipFill>
        <p:spPr>
          <a:xfrm>
            <a:off x="3643200" y="1643040"/>
            <a:ext cx="4214880" cy="242892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10" descr="pain_in_stomach_02.jpg"/>
          <p:cNvPicPr/>
          <p:nvPr/>
        </p:nvPicPr>
        <p:blipFill>
          <a:blip r:embed="rId3"/>
          <a:stretch/>
        </p:blipFill>
        <p:spPr>
          <a:xfrm>
            <a:off x="3786120" y="4143240"/>
            <a:ext cx="1643040" cy="246564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11" descr="1220393193_0420081063830.jpg"/>
          <p:cNvPicPr/>
          <p:nvPr/>
        </p:nvPicPr>
        <p:blipFill>
          <a:blip r:embed="rId4"/>
          <a:stretch/>
        </p:blipFill>
        <p:spPr>
          <a:xfrm>
            <a:off x="5857920" y="4286160"/>
            <a:ext cx="240984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Содержимое 3" descr="gum.jpg"/>
          <p:cNvPicPr/>
          <p:nvPr/>
        </p:nvPicPr>
        <p:blipFill>
          <a:blip r:embed="rId1"/>
          <a:stretch/>
        </p:blipFill>
        <p:spPr>
          <a:xfrm>
            <a:off x="1357200" y="1714680"/>
            <a:ext cx="6215040" cy="476388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ая соединительная линия 6"/>
          <p:cNvSpPr/>
          <p:nvPr/>
        </p:nvSpPr>
        <p:spPr>
          <a:xfrm>
            <a:off x="857160" y="1143000"/>
            <a:ext cx="7429680" cy="5500800"/>
          </a:xfrm>
          <a:prstGeom prst="line">
            <a:avLst/>
          </a:prstGeom>
          <a:ln w="212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Прямая соединительная линия 7"/>
          <p:cNvSpPr/>
          <p:nvPr/>
        </p:nvSpPr>
        <p:spPr>
          <a:xfrm flipH="1">
            <a:off x="357120" y="1071000"/>
            <a:ext cx="7858080" cy="5500440"/>
          </a:xfrm>
          <a:prstGeom prst="line">
            <a:avLst/>
          </a:prstGeom>
          <a:ln w="212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62b71"/>
                </a:solidFill>
                <a:latin typeface="Calibri"/>
              </a:rPr>
              <a:t>Источники материалов</a:t>
            </a: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http://ru.wikipedia.org/wiki/%D0%96%D0%B2%D0%B0%D1%87%D0%BA%D0%B0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hlinkClick r:id="rId1"/>
              </a:rPr>
              <a:t>http://ru.wikipedia.org/wiki/Wrigley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00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http://images.google.ru/url?source=imgres&amp;ct=ref&amp;q=http://www.findagrave.com/cgi-bin/fg.cgi%3FGRid%3D2371%26page%3Dgr&amp;usg=AFQjCNEWCgIr1_32d6lSo4QNlC2rQHVTvg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hlinkClick r:id="rId2"/>
              </a:rPr>
              <a:t>http://pic.ipicture.ru/uploads/090528/Edv29OTtTO.jpg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00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w Cen MT"/>
                <a:hlinkClick r:id="rId3"/>
              </a:rPr>
              <a:t>http://www.bosonogoe.ru/uploads/images/c/d/8/a/547/9aa3afa264.jpg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00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w Cen MT"/>
                <a:hlinkClick r:id="rId4"/>
              </a:rPr>
              <a:t>http://kuraev.ru/smf/index.php?topic=162668.msg1842964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00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w Cen MT"/>
                <a:hlinkClick r:id="rId5"/>
              </a:rPr>
              <a:t>http://img-2006-10.photosight.ru/19/1714052.jpg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00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w Cen MT"/>
                <a:hlinkClick r:id="rId6"/>
              </a:rPr>
              <a:t>http://my.passion.ru/users/134000/133222/19208.jpg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00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w Cen MT"/>
                <a:hlinkClick r:id="rId7"/>
              </a:rPr>
              <a:t>http://www.silvercoffee.ru/images/articles/full/67/ulybka2.jpg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00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w Cen MT"/>
                <a:hlinkClick r:id="rId8"/>
              </a:rPr>
              <a:t>http://vitosan.ru/images/stories/gastrit.jpg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00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http://www.terrawoman.com/datas/upload/img/health/pain_in_stomach_02.jpg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00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http://www.sapfira.ru/uploads/posts/2008-09/1220393193_0420081063830.jpg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00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62b71"/>
                </a:solidFill>
                <a:latin typeface="Calibri"/>
              </a:rPr>
              <a:t>Источники материалов</a:t>
            </a: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http://www.rambler.ru/style/images/18548_34.1165412870.15823.jpg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25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http://www.buzzle.com/img/articleImages/269253-12314-47.jpg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25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http://www.aif.ru/application/public/article/930/ea6dbed836917c6947c5e7f0f428c8c0_big.jpg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25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http://www.tden.ru/f/articles/020474/illu_1.jpg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25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http://moikompas.ru/img/compas/2008-08-22/yazva/26124011.jpg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25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http://www.e-tat.ru/zv/2001/j03_2001/image/st12.jpg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25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http://www.medfaq.info/web/uploaded/image/olia%20pics/6yazva.jpg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25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http://gazeta.medicina.ru/16/beauty/1/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25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62b71"/>
                </a:solidFill>
                <a:latin typeface="Calibri"/>
              </a:rPr>
              <a:t>Жевательная резинка</a:t>
            </a: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евательная резинка (жвачка) – это особое кулинарное изделие. Которое состоит из несъедобной эластичной основы и различных вкусовых и ароматических добавок.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62b71"/>
                </a:solidFill>
                <a:latin typeface="Calibri"/>
              </a:rPr>
              <a:t>Предыстория</a:t>
            </a: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едысторию жевательной резинки можно найти в любой части света: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ревние греки жевали смолу мастичного дерева для освежения дыхания и чистки зубов от остатков пищи;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севере Америки индейцы жевали смолу хвойных деревьев, которую выпаривали на костре;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Сибири применялась т.н. сибирская смолка, которой не только чистили зубы, но и укрепляли десны и лечили от различных болезней;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62b71"/>
                </a:solidFill>
                <a:latin typeface="Calibri"/>
              </a:rPr>
              <a:t>Предыстория</a:t>
            </a: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Индии и Юго-Восточной Азии прототипом современной жевательной резинки стала смесь листьев перечного бетеля, семян пальмы и извести;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Европе предпосылки к употреблению жвачки появились в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XV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Постепенно привычка распространилась и на Соединенные Штаты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62b71"/>
                </a:solidFill>
                <a:latin typeface="Calibri"/>
              </a:rPr>
              <a:t>Создание жвачки</a:t>
            </a: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59984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ая жвачка была выпущена в г. Бангор (штат Мэн, США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4" name="Рисунок 3" descr="США.jpg"/>
          <p:cNvPicPr/>
          <p:nvPr/>
        </p:nvPicPr>
        <p:blipFill>
          <a:blip r:embed="rId1"/>
          <a:stretch/>
        </p:blipFill>
        <p:spPr>
          <a:xfrm>
            <a:off x="500040" y="3000240"/>
            <a:ext cx="3571920" cy="2857680"/>
          </a:xfrm>
          <a:prstGeom prst="rect">
            <a:avLst/>
          </a:prstGeom>
          <a:ln w="0">
            <a:noFill/>
          </a:ln>
        </p:spPr>
      </p:pic>
      <p:sp>
        <p:nvSpPr>
          <p:cNvPr id="285" name="Содержимое 2"/>
          <p:cNvSpPr/>
          <p:nvPr/>
        </p:nvSpPr>
        <p:spPr>
          <a:xfrm>
            <a:off x="4286160" y="2571840"/>
            <a:ext cx="435780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этого момента история жевательной резинки развивается со стремительной скоростью. Благодаря конвейерному производству жевательная резинка превратилась в товар, а мода на жевательную резинку распространилась по всему миру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62b71"/>
                </a:solidFill>
                <a:latin typeface="Calibri"/>
              </a:rPr>
              <a:t>Первые попытки изготовления</a:t>
            </a: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848 г. Джон Кёртис налаживает промышленное производство жевательной резинки. На его фабрике всего 4 котла. В одном из хвойной смолы выпаривались примеси, в других готовилась масса для изделий с добавлением легких ароматизаторов. Первые жевательные резинки носили название «Белая гора», «Сливки с сахаром»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62b71"/>
                </a:solidFill>
                <a:latin typeface="Calibri"/>
              </a:rPr>
              <a:t>Первые попытки изготовления</a:t>
            </a: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850 г. К Кёртису приезжает брат, и жевательные резинки начинают разрезать на кубики. Появляется первая обертка из бумаги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производство приглашается 200 человек. Расширяется ассортимент продукции. Появляются жвачки «Четыре в руки», «Американский флаг», «Сосновая магистраль»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62b71"/>
                </a:solidFill>
                <a:latin typeface="Calibri"/>
              </a:rPr>
              <a:t>Патентованная жвачка</a:t>
            </a: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14200" y="1599840"/>
            <a:ext cx="52149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оследующие годы несколько дантистов открывают свои фабрики по производству жевательной резинки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1880-е годы в жвачку стали добавлять сахар и ароматизаторы по новой технологии – теперь жвачки стали сохранять свой вкус на более долгий срок. Такие жвачки стал производить Уильям Ригли, открывший компанию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rigley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92" name="Рисунок 3" descr="2371_114995447875.jpg"/>
          <p:cNvPicPr/>
          <p:nvPr/>
        </p:nvPicPr>
        <p:blipFill>
          <a:blip r:embed="rId1"/>
          <a:stretch/>
        </p:blipFill>
        <p:spPr>
          <a:xfrm>
            <a:off x="5786280" y="2071800"/>
            <a:ext cx="3103560" cy="3413160"/>
          </a:xfrm>
          <a:prstGeom prst="rect">
            <a:avLst/>
          </a:prstGeom>
          <a:ln w="0">
            <a:noFill/>
          </a:ln>
        </p:spPr>
      </p:pic>
      <p:sp>
        <p:nvSpPr>
          <p:cNvPr id="293" name="TextBox 4"/>
          <p:cNvSpPr/>
          <p:nvPr/>
        </p:nvSpPr>
        <p:spPr>
          <a:xfrm>
            <a:off x="6643800" y="571500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ильям Ригли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2:35:39Z</dcterms:created>
  <dc:creator>tyapuhy</dc:creator>
  <dc:description/>
  <dc:language>en-US</dc:language>
  <cp:lastModifiedBy>nina</cp:lastModifiedBy>
  <dcterms:modified xsi:type="dcterms:W3CDTF">2009-11-11T12:15:25Z</dcterms:modified>
  <cp:revision>21</cp:revision>
  <dc:subject/>
  <dc:title>Жевательная резинка. История. Польза и вред жевательной резинки.</dc:title>
</cp:coreProperties>
</file>